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C29-3A34-4BAF-806C-86A53272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788-F1E6-448E-A3D2-4C8685B9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1D8-464B-4136-B07E-67ED94AC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F41-CAAB-4096-B6AF-F305C331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E9B-78FF-4E50-9A95-891E0CA7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56B-7752-43FF-BA18-3E897086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BBA-1AB7-470A-8182-D5B90EFD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FD1-A0DD-4C64-A158-C603D862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7E2-6618-4627-A464-8491FC86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2B7-F59F-4CEE-BB12-17177FE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E3F-9C7A-4D17-B3F0-82B1394C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AC2-AE93-4284-A228-FC25CA33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D47C-6329-4445-BE2E-693F9F295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82240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724200" y="33336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мптоми и знаци поремећаја регулаторне и екскреторне функције бубрег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) поремећај волумена воде и електролитног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) поремећаји ацидо-базне равноте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) ретенце азотних и других метабол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4) поремећаји у регулацији крвног притиска и стварања еритроц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ремијски токсини су са хормонским поремећајем, електролитним дисбалансом и ацидозом одговорни за метаболичке поремећаје и поремећаје у раду многих орган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Поремећај метаболизма масти (повишени TG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DL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LDL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 УХ (интолеранција угљенихидрата, хиперинсулиниз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ижена способност концентрисањ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мећај метаболизм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a, P и ренална остеодистрофија (коштани деформитети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д пада ГФ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 ml/min/ 1,73 m²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спољав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стој у расту (ендокринолошки поремећај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наци протеинске малнутриције (губитак мишићне масе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спорен и неправилан психомоторн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иферна неуропатија са оштећењем сензорних и моторних функција и повећана неуромускуларна раздражљивост  праћена грчевима и конвулзија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жа сува, сиво-жуте боје, појачан свра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еми, тахипноа, диспнеја (хиперволемија, ацидоза, 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јавља се нормоцитна, нормохромна анемија због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) смањеног стварања еритропоетина услед губитка функционалног паренх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) успорене еритропоезе услед неосетљивости еритроидне лозе на еритропоетин у присуству уремијских токс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) хемолизе изазване уремијским токсин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) крварења због смањенја броја тромбоцита и оштећења фун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 јављ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(80-90%) са знацима циркулаторне конгестије, едемом плућа, кардиомегалијом и галопним ритм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инопат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ремећај све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раћање, дијареја,  мел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ЂЕЊЕ И ЛЕЧЕЊЕ БОЛЕСНИКА СА Х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2243160"/>
                <a:gridCol w="2879640"/>
                <a:gridCol w="3106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ањена фун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r&gt; 50ml/min/1,73m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говарајући дијететски режим (»нормалан живот«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онич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50-2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чење остеодистрофиј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а ацидобазног и електролитног баланс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ем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20-10/min/1,73m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јетотерап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нзивно конзерватиивно лечење (хипекалемија, хипертензија, ацидоза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минал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&lt; 1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збедити приступ крвним судовима за хемодијализу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лантација или хемодијализ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ГИЈЕНСКО-ДИЈЕТЕТСКИ  РЕЖ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могућава нормалан раст 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теди преостале нефроне од брзог пропад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прогресије ХБИ унос протеина за децу до 12 година је 100%, а за старију 80% потреба здравог детет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м стадијуму, ако се лече хемодијализама унос протеина се повећава за 10-20%, а ако се лече перитонеумском дијализом за 30-50%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5-20% укупне дневне количине може бити у виду есенцијалних аминокиселина или њихових кетоанало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гулисан је осећајем жеђи болесника до терминалног стадијум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терминалне БИ, када болесник улази у олигуричну фазу,  ограничава се на 300-500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l/m²/24h (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спирација)  + губитак урином и столиц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нос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 не ограничава до терминалног стадијума изузев ако болесник има хипертензи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1-2mmol/kg/24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КАЛИЈ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путити болесника да избегава храну богату калијум (суво воће, поморанџе, парадајз, ораси, чоколада, кока-кола) када клиренс креатинина падне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0ml/min/1,73m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оле јонски-измењивачи ( у ГИТ-у измењу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лучајевима тешке хиперкалемије лeчeњe јe као у АБ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ЦИЈА И ЛЕЧЕЊЕ РЕНАЛНЕ ОСТЕОДИСТРОФИЈ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венција РОД започиње када ј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cr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  <a:ea typeface="Tahoma"/>
              </a:rPr>
              <a:t>&lt;60мл/ми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ит.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(4-8000IJ/24h)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(0,12-0,50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CO3 (300-500 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триктна контрола уноса фосфора храном (контрoла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, P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PTH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ерума 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-2x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годишње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Rtg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Терапиј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ећe доз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i CaCO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2010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(ХБИ) је стање које настаје због прогресивног, иреверзибилног оштећења бубрега, одражава се поремећајем у раду низа органа, а сами бубрези нису у могућности да одрже запремину и састав течности у норм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ЦИД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рекција се врши према гасним анализама само до нивоа бикарбобата у серуму од 1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8mmol/l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да се не би погоршала хипертенз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3 mmol/kg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икарбон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е испољи манифестна хипокалцемична тетанија у комбинацији са ацидозом потребно је претходно кориговати хипокалце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НЕМ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чити сидеропенију препаратима гвожђ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умани рекомбинантни еритропоети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-75 J/ kg TT    1-3x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дељно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sc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i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дијализираних болесника се дају препарати  фолне киселин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5mg/kg TT/24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ХИПЕРТЕНЗИЈЕ И СРЧАНЕ ИНСУФИЦИЈ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као последица хиперволемије се лечи диуретицима и ултрафилтрацијом у току дијализ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хиперволемијским стањима за брзу контролу су корисни калцијум-блокатори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ифедипи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иперренинска хипертензија се леч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E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нхибиторим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лаприл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 бета-блокатор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ко рефрактарна, малигна хипертензија у уремичне деце захтева нефректо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у потребни кардиотоници дозу треба редуковати према резидуалној функцији бубре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ИНФЕ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нергично лечи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кове који се излучују исклучиво путем бубрега потребно је давати у дозама које се смањују паралелно са смањењем функције бубрега (цефалоспорин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фротоксичне лекове треба избегавати или давати у одговарајуће умањеним дозама (аминогликозид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ХБИ 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е дефинисати и као сва клиничка стања  код којих су концентрације креатинина у серуму повећане изнад 2 SD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односу на нормалне вредности за пол и узра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центрација плазма-креатинина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arratt i Chantler 197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63080" cy="4829040"/>
        </p:xfrm>
        <a:graphic>
          <a:graphicData uri="http://schemas.openxmlformats.org/drawingml/2006/table">
            <a:tbl>
              <a:tblPr/>
              <a:tblGrid>
                <a:gridCol w="2743200"/>
                <a:gridCol w="277668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ња вредност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µ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он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± 2 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в пупча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26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5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-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тао мушкара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-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ла ж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фективне (хронични пијелонефритис) или iнфламаторне болести (GN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2) аномалије бубрега и уротракта (опструктивне уропатије 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3) наследни бубрежни поремећаји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4) болести везивног ткива (SLE, HUS, HSP)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5) метаболички поремећаји (шећерна болест, амилоидоза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6) токсичне нефропатије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7) хипертензивне васкуларне болeсти (нeфросклeроз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 гломерулских обољења (25,8%) најчешћи узрок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стероид резистентни нефротски синдром са фокалном гломерулском склероз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мембрано пролиферативни гломерулонефрити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IgA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нефропатиј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3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Хронични пијелонефритис (24,6%) у деце представља учесталост примарног и секундарног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UR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-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јчешћа хередитарна обољења (15,6%)  која доводе до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јувенилна нефронофти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цистино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цистичне болести бубрег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lport-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 нефритис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роци ХБИ у болесника лечених хемодијализама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980- 1990. год.  на УДК у Београ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ро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УКСНА НЕФРОПАТ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ОМЕРУЛСКЕ БОЛ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УВЕНИЛНА НЕФРОНОФТИ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ВАЊЕ ГЉИВ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ПЛАЗИЈА/ДИСПЛА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КУ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СА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ORT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 W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СТИН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ЗНАТЕ ЕТИОЛОГ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генитална обољења бубрега и уринарног тракта раније изазивају ХБИ, већ у првим годинама живота, док хередитарне и стечене болести бубрега  касније доводе до ХБИ, обично између 5 и 15 год. жив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во стање пролази кроз 4 фаз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 фаза: повећана бубрежна функционална резерва; ГФ(гломеруларна филтрација) снижена на 30-50ml/min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 фаза: смањенa екскреторнa функцијa бубрeгa сa raзвојeм aзотeмијe;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Ф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e 15-30ml/min 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I фаза: полисистемски функционални поремећаји, ГФ је око 10ml/min /1,73 m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V фаза: терминални стадијум, ГФ испод 10ml/min /1,73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m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14:30Z</dcterms:created>
  <dc:creator>vvinfo</dc:creator>
  <dc:description/>
  <dc:language>en-US</dc:language>
  <cp:lastModifiedBy>User</cp:lastModifiedBy>
  <dcterms:modified xsi:type="dcterms:W3CDTF">2014-08-12T13:19:12Z</dcterms:modified>
  <cp:revision>64</cp:revision>
  <dc:subject/>
  <dc:title>Slide 1</dc:title>
</cp:coreProperties>
</file>