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1A28-FDED-471C-9FAB-D88341CEF3F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14D4-5FC5-4160-8AC5-944D484D2CD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63EF-3971-42B6-9004-CDC77EDC66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222C-4598-4E98-89DE-E3B98CAF7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8B9A-271F-4ADD-AFC1-BB9709E7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9318-DFBB-48F5-83B9-73B19E3D0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8EFE-A001-4BB8-A35B-21B14DD98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AEAB-9BCC-4348-B72B-2D47B67B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8DDD-582F-4D1C-8E14-15F9D02F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C4E0-B344-4ADA-9FC7-90F16390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72EA-39D6-4C3C-9F4E-807D55AE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C668-CA7F-4BF5-8249-F190D48F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0EB3-1356-4BD2-AD4B-88C9ED77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658D-5F26-41DE-815C-4A4CACED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BACC-D1AF-4032-8434-A2D52A61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E0F3-EE9E-426D-B301-79E972116114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56040"/>
            <a:ext cx="7772400" cy="188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4300" spc="-1" strike="noStrike">
                <a:solidFill>
                  <a:srgbClr val="000000"/>
                </a:solidFill>
                <a:latin typeface="Calibri Light"/>
              </a:rPr>
              <a:t>НОЋНО УМОКРАВАЊЕ </a:t>
            </a:r>
            <a:r>
              <a:rPr b="0" lang="sr-Latn-CS" sz="4300" spc="-1" strike="noStrike">
                <a:solidFill>
                  <a:srgbClr val="000000"/>
                </a:solidFill>
                <a:latin typeface="Calibri Light"/>
              </a:rPr>
              <a:t>(ENURESIS NOCTURNA) </a:t>
            </a:r>
            <a:r>
              <a:rPr b="0" lang="sr-RS" sz="4300" spc="-1" strike="noStrike">
                <a:solidFill>
                  <a:srgbClr val="000000"/>
                </a:solidFill>
                <a:latin typeface="Calibri Light"/>
              </a:rPr>
              <a:t>КОД ДЕЦЕ</a:t>
            </a:r>
            <a:endParaRPr b="0" lang="en-US" sz="4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2513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роф. др Ана Вуји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657600" y="189000"/>
            <a:ext cx="16956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158400"/>
            <a:ext cx="7886880" cy="89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3300" spc="-1" strike="noStrike">
                <a:solidFill>
                  <a:srgbClr val="000000"/>
                </a:solidFill>
                <a:latin typeface="Calibri Light"/>
              </a:rPr>
              <a:t>Узроци ноћног умокравања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843280" y="1825200"/>
            <a:ext cx="56721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7%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зноси ризик уколико су се оба родитеља умокравала ноћ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3%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зноси ризик уколико се један од родитеља умокрав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5%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зноси ризик иако се нико у породици није умокрав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311040" y="1847880"/>
            <a:ext cx="2298960" cy="4329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24480" y="1177920"/>
            <a:ext cx="377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 Light"/>
              </a:rPr>
              <a:t>Породична истор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1187280" y="6330960"/>
            <a:ext cx="777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1400" spc="-1" strike="noStrike">
                <a:solidFill>
                  <a:srgbClr val="000000"/>
                </a:solidFill>
                <a:latin typeface="Calibri"/>
              </a:rPr>
              <a:t>Bakwin. Am J Dis Child 1971;121;222–5; Jarvelin et al. Acta Paediatr Scand 1988;77:148–5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1274040" y="2276640"/>
            <a:ext cx="6852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Психолошки проблеми су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 u="sng">
                <a:solidFill>
                  <a:srgbClr val="000000"/>
                </a:solidFill>
                <a:uFillTx/>
                <a:latin typeface="Calibri"/>
              </a:rPr>
              <a:t>последица</a:t>
            </a: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а не узрок ноћног умокравањ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I remember going to this camp with my brown rubber shee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I was a bedwetter until I was sev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was so embarrassed at                   that camp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44546a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rbra Streis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3300" spc="-1" strike="noStrike">
                <a:solidFill>
                  <a:srgbClr val="000000"/>
                </a:solidFill>
                <a:latin typeface="Calibri Light"/>
              </a:rPr>
              <a:t>Друштвени и лични печат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I was a bedwet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I was weak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I was ugl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I was unpopula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I had a chronic cough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I was cowardl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I smelt.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eorge Orw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3300" spc="-1" strike="noStrike">
                <a:solidFill>
                  <a:srgbClr val="000000"/>
                </a:solidFill>
                <a:latin typeface="Calibri Light"/>
              </a:rPr>
              <a:t>Самопоштовање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д детињства се развија упадљив ритам стварања мокраће. Ово омогућава смањење диурезе ноћу до приближно 50% дневних ниво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мањење стварања урина током ноћи дозбољава непрекинут сан уз пуну беши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во омогучава ноћно стварање хормона који регулишу излучивање слободне воде (аргинин вазопресин -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AVI5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), или излучиивање електролита (ангиотензин 2 и алдостреон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ато је мокраћа веће концентрације и мање запремине током с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Више од 50% пацијената са ноћним умокравањем има недостатак у циркадијалном ритму лучења вазопресина, што доводи до стварања мокраће током ноћи толико да количина превазилази капацитет беши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а овакве пацијенте се каже да пате од ноћне полиур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2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CCS slide library v1 201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1"/>
          <p:cNvSpPr/>
          <p:nvPr/>
        </p:nvSpPr>
        <p:spPr>
          <a:xfrm>
            <a:off x="6661080" y="6570720"/>
            <a:ext cx="21337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2165400" y="57960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6648840" y="579276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no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7"/>
          <p:cNvSpPr/>
          <p:nvPr/>
        </p:nvSpPr>
        <p:spPr>
          <a:xfrm rot="16200000">
            <a:off x="60480" y="4680000"/>
            <a:ext cx="19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Продукција ури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8"/>
          <p:cNvSpPr/>
          <p:nvPr/>
        </p:nvSpPr>
        <p:spPr>
          <a:xfrm rot="16200000">
            <a:off x="57240" y="2517840"/>
            <a:ext cx="19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Продукција ури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1895400" y="4175280"/>
            <a:ext cx="5504040" cy="16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10"/>
          <p:cNvSpPr/>
          <p:nvPr/>
        </p:nvSpPr>
        <p:spPr>
          <a:xfrm>
            <a:off x="2319480" y="4583160"/>
            <a:ext cx="4781520" cy="372960"/>
          </a:xfrm>
          <a:custGeom>
            <a:avLst/>
            <a:gdLst>
              <a:gd name="textAreaLeft" fmla="*/ 0 w 4781520"/>
              <a:gd name="textAreaRight" fmla="*/ 4781880 w 478152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3012" h="235">
                <a:moveTo>
                  <a:pt x="0" y="206"/>
                </a:moveTo>
                <a:cubicBezTo>
                  <a:pt x="43" y="211"/>
                  <a:pt x="36" y="235"/>
                  <a:pt x="260" y="235"/>
                </a:cubicBezTo>
                <a:cubicBezTo>
                  <a:pt x="484" y="235"/>
                  <a:pt x="1104" y="235"/>
                  <a:pt x="1346" y="205"/>
                </a:cubicBezTo>
                <a:cubicBezTo>
                  <a:pt x="1588" y="175"/>
                  <a:pt x="1472" y="82"/>
                  <a:pt x="1714" y="53"/>
                </a:cubicBezTo>
                <a:cubicBezTo>
                  <a:pt x="1956" y="24"/>
                  <a:pt x="2590" y="0"/>
                  <a:pt x="2801" y="28"/>
                </a:cubicBezTo>
                <a:cubicBezTo>
                  <a:pt x="3012" y="56"/>
                  <a:pt x="2944" y="182"/>
                  <a:pt x="2982" y="222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11"/>
          <p:cNvSpPr/>
          <p:nvPr/>
        </p:nvSpPr>
        <p:spPr>
          <a:xfrm>
            <a:off x="2333520" y="4919760"/>
            <a:ext cx="4711680" cy="677880"/>
          </a:xfrm>
          <a:custGeom>
            <a:avLst/>
            <a:gdLst>
              <a:gd name="textAreaLeft" fmla="*/ 0 w 4711680"/>
              <a:gd name="textAreaRight" fmla="*/ 4712040 w 4711680"/>
              <a:gd name="textAreaTop" fmla="*/ 0 h 677880"/>
              <a:gd name="textAreaBottom" fmla="*/ 677880 h 677880"/>
            </a:gdLst>
            <a:ahLst/>
            <a:rect l="textAreaLeft" t="textAreaTop" r="textAreaRight" b="textAreaBottom"/>
            <a:pathLst>
              <a:path w="2968" h="427">
                <a:moveTo>
                  <a:pt x="2965" y="2"/>
                </a:moveTo>
                <a:lnTo>
                  <a:pt x="2968" y="427"/>
                </a:lnTo>
                <a:lnTo>
                  <a:pt x="0" y="427"/>
                </a:lnTo>
                <a:lnTo>
                  <a:pt x="1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1898640" y="1996920"/>
            <a:ext cx="5504040" cy="16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 13"/>
          <p:cNvSpPr/>
          <p:nvPr/>
        </p:nvSpPr>
        <p:spPr>
          <a:xfrm>
            <a:off x="2324160" y="2473200"/>
            <a:ext cx="4730760" cy="649440"/>
          </a:xfrm>
          <a:custGeom>
            <a:avLst/>
            <a:gdLst>
              <a:gd name="textAreaLeft" fmla="*/ 0 w 4730760"/>
              <a:gd name="textAreaRight" fmla="*/ 4731120 w 473076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980" h="409">
                <a:moveTo>
                  <a:pt x="2980" y="74"/>
                </a:moveTo>
                <a:cubicBezTo>
                  <a:pt x="2914" y="123"/>
                  <a:pt x="2795" y="327"/>
                  <a:pt x="2577" y="368"/>
                </a:cubicBezTo>
                <a:cubicBezTo>
                  <a:pt x="2359" y="409"/>
                  <a:pt x="1886" y="376"/>
                  <a:pt x="1672" y="323"/>
                </a:cubicBezTo>
                <a:cubicBezTo>
                  <a:pt x="1458" y="270"/>
                  <a:pt x="1536" y="102"/>
                  <a:pt x="1293" y="51"/>
                </a:cubicBezTo>
                <a:cubicBezTo>
                  <a:pt x="1050" y="0"/>
                  <a:pt x="426" y="5"/>
                  <a:pt x="213" y="15"/>
                </a:cubicBezTo>
                <a:cubicBezTo>
                  <a:pt x="0" y="25"/>
                  <a:pt x="56" y="90"/>
                  <a:pt x="15" y="110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2355840" y="2590920"/>
            <a:ext cx="4711680" cy="852480"/>
          </a:xfrm>
          <a:custGeom>
            <a:avLst/>
            <a:gdLst>
              <a:gd name="textAreaLeft" fmla="*/ 0 w 4711680"/>
              <a:gd name="textAreaRight" fmla="*/ 4712040 w 4711680"/>
              <a:gd name="textAreaTop" fmla="*/ 0 h 852480"/>
              <a:gd name="textAreaBottom" fmla="*/ 852840 h 852480"/>
            </a:gdLst>
            <a:ahLst/>
            <a:rect l="textAreaLeft" t="textAreaTop" r="textAreaRight" b="textAreaBottom"/>
            <a:pathLst>
              <a:path w="2968" h="537">
                <a:moveTo>
                  <a:pt x="2968" y="0"/>
                </a:moveTo>
                <a:lnTo>
                  <a:pt x="2968" y="537"/>
                </a:lnTo>
                <a:lnTo>
                  <a:pt x="0" y="537"/>
                </a:lnTo>
                <a:lnTo>
                  <a:pt x="2" y="22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1855800" y="1589040"/>
            <a:ext cx="28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Деца без енуре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Line 16"/>
          <p:cNvSpPr/>
          <p:nvPr/>
        </p:nvSpPr>
        <p:spPr>
          <a:xfrm>
            <a:off x="4659480" y="1901880"/>
            <a:ext cx="0" cy="4195800"/>
          </a:xfrm>
          <a:prstGeom prst="line">
            <a:avLst/>
          </a:prstGeom>
          <a:ln w="50760">
            <a:solidFill>
              <a:srgbClr val="0000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1893600" y="3732120"/>
            <a:ext cx="28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Деца са енурез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18"/>
          <p:cNvSpPr/>
          <p:nvPr/>
        </p:nvSpPr>
        <p:spPr>
          <a:xfrm rot="16200000">
            <a:off x="769680" y="2641680"/>
            <a:ext cx="136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вазопреси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19"/>
          <p:cNvSpPr/>
          <p:nvPr/>
        </p:nvSpPr>
        <p:spPr>
          <a:xfrm rot="16200000">
            <a:off x="842400" y="4736160"/>
            <a:ext cx="136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вазопреси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20"/>
          <p:cNvSpPr/>
          <p:nvPr/>
        </p:nvSpPr>
        <p:spPr>
          <a:xfrm>
            <a:off x="2382840" y="2298600"/>
            <a:ext cx="4649760" cy="1049400"/>
          </a:xfrm>
          <a:custGeom>
            <a:avLst/>
            <a:gdLst>
              <a:gd name="textAreaLeft" fmla="*/ 0 w 4649760"/>
              <a:gd name="textAreaRight" fmla="*/ 4650120 w 4649760"/>
              <a:gd name="textAreaTop" fmla="*/ 0 h 1049400"/>
              <a:gd name="textAreaBottom" fmla="*/ 1049400 h 1049400"/>
            </a:gdLst>
            <a:ahLst/>
            <a:rect l="textAreaLeft" t="textAreaTop" r="textAreaRight" b="textAreaBottom"/>
            <a:pathLst>
              <a:path w="2929" h="661">
                <a:moveTo>
                  <a:pt x="0" y="602"/>
                </a:moveTo>
                <a:lnTo>
                  <a:pt x="103" y="646"/>
                </a:lnTo>
                <a:lnTo>
                  <a:pt x="242" y="602"/>
                </a:lnTo>
                <a:lnTo>
                  <a:pt x="345" y="617"/>
                </a:lnTo>
                <a:lnTo>
                  <a:pt x="506" y="661"/>
                </a:lnTo>
                <a:lnTo>
                  <a:pt x="712" y="639"/>
                </a:lnTo>
                <a:lnTo>
                  <a:pt x="785" y="602"/>
                </a:lnTo>
                <a:lnTo>
                  <a:pt x="866" y="536"/>
                </a:lnTo>
                <a:lnTo>
                  <a:pt x="932" y="595"/>
                </a:lnTo>
                <a:lnTo>
                  <a:pt x="1050" y="646"/>
                </a:lnTo>
                <a:lnTo>
                  <a:pt x="1189" y="624"/>
                </a:lnTo>
                <a:lnTo>
                  <a:pt x="1240" y="558"/>
                </a:lnTo>
                <a:lnTo>
                  <a:pt x="1292" y="587"/>
                </a:lnTo>
                <a:lnTo>
                  <a:pt x="1351" y="529"/>
                </a:lnTo>
                <a:lnTo>
                  <a:pt x="1387" y="382"/>
                </a:lnTo>
                <a:lnTo>
                  <a:pt x="1490" y="37"/>
                </a:lnTo>
                <a:lnTo>
                  <a:pt x="1556" y="15"/>
                </a:lnTo>
                <a:lnTo>
                  <a:pt x="1607" y="125"/>
                </a:lnTo>
                <a:lnTo>
                  <a:pt x="1659" y="242"/>
                </a:lnTo>
                <a:lnTo>
                  <a:pt x="1732" y="265"/>
                </a:lnTo>
                <a:lnTo>
                  <a:pt x="1791" y="213"/>
                </a:lnTo>
                <a:lnTo>
                  <a:pt x="1879" y="8"/>
                </a:lnTo>
                <a:lnTo>
                  <a:pt x="1974" y="191"/>
                </a:lnTo>
                <a:lnTo>
                  <a:pt x="2018" y="294"/>
                </a:lnTo>
                <a:lnTo>
                  <a:pt x="2085" y="309"/>
                </a:lnTo>
                <a:lnTo>
                  <a:pt x="2136" y="169"/>
                </a:lnTo>
                <a:lnTo>
                  <a:pt x="2158" y="37"/>
                </a:lnTo>
                <a:lnTo>
                  <a:pt x="2231" y="140"/>
                </a:lnTo>
                <a:lnTo>
                  <a:pt x="2290" y="140"/>
                </a:lnTo>
                <a:lnTo>
                  <a:pt x="2371" y="22"/>
                </a:lnTo>
                <a:lnTo>
                  <a:pt x="2422" y="0"/>
                </a:lnTo>
                <a:lnTo>
                  <a:pt x="2532" y="206"/>
                </a:lnTo>
                <a:lnTo>
                  <a:pt x="2584" y="301"/>
                </a:lnTo>
                <a:lnTo>
                  <a:pt x="2664" y="154"/>
                </a:lnTo>
                <a:lnTo>
                  <a:pt x="2723" y="162"/>
                </a:lnTo>
                <a:lnTo>
                  <a:pt x="2760" y="257"/>
                </a:lnTo>
                <a:lnTo>
                  <a:pt x="2870" y="448"/>
                </a:lnTo>
                <a:lnTo>
                  <a:pt x="2929" y="617"/>
                </a:lnTo>
              </a:path>
            </a:pathLst>
          </a:custGeom>
          <a:noFill/>
          <a:ln w="31680">
            <a:solidFill>
              <a:srgbClr val="b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21"/>
          <p:cNvSpPr/>
          <p:nvPr/>
        </p:nvSpPr>
        <p:spPr>
          <a:xfrm>
            <a:off x="2394000" y="4500720"/>
            <a:ext cx="4660920" cy="968040"/>
          </a:xfrm>
          <a:custGeom>
            <a:avLst/>
            <a:gdLst>
              <a:gd name="textAreaLeft" fmla="*/ 0 w 4660920"/>
              <a:gd name="textAreaRight" fmla="*/ 4661280 w 4660920"/>
              <a:gd name="textAreaTop" fmla="*/ 0 h 968040"/>
              <a:gd name="textAreaBottom" fmla="*/ 968400 h 968040"/>
            </a:gdLst>
            <a:ahLst/>
            <a:rect l="textAreaLeft" t="textAreaTop" r="textAreaRight" b="textAreaBottom"/>
            <a:pathLst>
              <a:path w="2936" h="610">
                <a:moveTo>
                  <a:pt x="0" y="411"/>
                </a:moveTo>
                <a:lnTo>
                  <a:pt x="74" y="96"/>
                </a:lnTo>
                <a:lnTo>
                  <a:pt x="176" y="74"/>
                </a:lnTo>
                <a:lnTo>
                  <a:pt x="331" y="441"/>
                </a:lnTo>
                <a:lnTo>
                  <a:pt x="455" y="426"/>
                </a:lnTo>
                <a:lnTo>
                  <a:pt x="543" y="147"/>
                </a:lnTo>
                <a:lnTo>
                  <a:pt x="654" y="140"/>
                </a:lnTo>
                <a:lnTo>
                  <a:pt x="734" y="360"/>
                </a:lnTo>
                <a:lnTo>
                  <a:pt x="830" y="375"/>
                </a:lnTo>
                <a:lnTo>
                  <a:pt x="969" y="0"/>
                </a:lnTo>
                <a:lnTo>
                  <a:pt x="1079" y="44"/>
                </a:lnTo>
                <a:lnTo>
                  <a:pt x="1270" y="375"/>
                </a:lnTo>
                <a:lnTo>
                  <a:pt x="1329" y="382"/>
                </a:lnTo>
                <a:lnTo>
                  <a:pt x="1388" y="96"/>
                </a:lnTo>
                <a:lnTo>
                  <a:pt x="1476" y="88"/>
                </a:lnTo>
                <a:lnTo>
                  <a:pt x="1666" y="595"/>
                </a:lnTo>
                <a:lnTo>
                  <a:pt x="1755" y="595"/>
                </a:lnTo>
                <a:lnTo>
                  <a:pt x="1813" y="441"/>
                </a:lnTo>
                <a:lnTo>
                  <a:pt x="1931" y="455"/>
                </a:lnTo>
                <a:lnTo>
                  <a:pt x="2019" y="610"/>
                </a:lnTo>
                <a:lnTo>
                  <a:pt x="2136" y="551"/>
                </a:lnTo>
                <a:lnTo>
                  <a:pt x="2261" y="316"/>
                </a:lnTo>
                <a:lnTo>
                  <a:pt x="2378" y="419"/>
                </a:lnTo>
                <a:lnTo>
                  <a:pt x="2459" y="558"/>
                </a:lnTo>
                <a:lnTo>
                  <a:pt x="2577" y="573"/>
                </a:lnTo>
                <a:lnTo>
                  <a:pt x="2635" y="455"/>
                </a:lnTo>
                <a:lnTo>
                  <a:pt x="2723" y="499"/>
                </a:lnTo>
                <a:lnTo>
                  <a:pt x="2767" y="566"/>
                </a:lnTo>
                <a:lnTo>
                  <a:pt x="2863" y="331"/>
                </a:lnTo>
                <a:lnTo>
                  <a:pt x="2936" y="199"/>
                </a:lnTo>
              </a:path>
            </a:pathLst>
          </a:custGeom>
          <a:noFill/>
          <a:ln w="31680">
            <a:solidFill>
              <a:srgbClr val="b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22"/>
          <p:cNvSpPr/>
          <p:nvPr/>
        </p:nvSpPr>
        <p:spPr>
          <a:xfrm>
            <a:off x="433440" y="219240"/>
            <a:ext cx="8361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Ноћна полиурија</a:t>
            </a:r>
            <a:br>
              <a:rPr sz="27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23"/>
          <p:cNvSpPr/>
          <p:nvPr/>
        </p:nvSpPr>
        <p:spPr>
          <a:xfrm>
            <a:off x="417600" y="6574320"/>
            <a:ext cx="7607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3729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00" spc="-1" strike="noStrike">
                <a:solidFill>
                  <a:srgbClr val="44546a"/>
                </a:solidFill>
                <a:latin typeface="Arial"/>
                <a:ea typeface="ヒラギノ角ゴ Pro W3"/>
              </a:rPr>
              <a:t>Izvor</a:t>
            </a:r>
            <a:r>
              <a:rPr b="0" lang="en-US" sz="900" spc="-1" strike="noStrike">
                <a:solidFill>
                  <a:srgbClr val="44546a"/>
                </a:solidFill>
                <a:latin typeface="Arial"/>
                <a:ea typeface="ヒラギノ角ゴ Pro W3"/>
              </a:rPr>
              <a:t>:</a:t>
            </a:r>
            <a:r>
              <a:rPr b="0" lang="en-US" sz="900" spc="-1" strike="noStrike">
                <a:solidFill>
                  <a:srgbClr val="44546a"/>
                </a:solidFill>
                <a:latin typeface="Arial"/>
                <a:ea typeface="ヒラギノ角ゴ Pro W3"/>
              </a:rPr>
              <a:t>	</a:t>
            </a:r>
            <a:r>
              <a:rPr b="0" lang="en-US" sz="900" spc="-1" strike="noStrike">
                <a:solidFill>
                  <a:srgbClr val="44546a"/>
                </a:solidFill>
                <a:latin typeface="Arial"/>
                <a:ea typeface="ヒラギノ角ゴ Pro W3"/>
              </a:rPr>
              <a:t>Rittig S, et al. Abnormal diurnal rhythm of plasma vasopressin and urinary output in patients with enuresis. Am J Physiol 1989; 256: F664-7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24"/>
          <p:cNvSpPr/>
          <p:nvPr/>
        </p:nvSpPr>
        <p:spPr>
          <a:xfrm>
            <a:off x="7683480" y="236520"/>
            <a:ext cx="1224000" cy="10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2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1"/>
          <p:cNvSpPr/>
          <p:nvPr/>
        </p:nvSpPr>
        <p:spPr>
          <a:xfrm>
            <a:off x="6661080" y="6570720"/>
            <a:ext cx="21337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Group 9"/>
          <p:cNvGrpSpPr/>
          <p:nvPr/>
        </p:nvGrpSpPr>
        <p:grpSpPr>
          <a:xfrm>
            <a:off x="1360440" y="1733400"/>
            <a:ext cx="6418080" cy="4051080"/>
            <a:chOff x="1360440" y="1733400"/>
            <a:chExt cx="6418080" cy="4051080"/>
          </a:xfrm>
        </p:grpSpPr>
        <p:sp>
          <p:nvSpPr>
            <p:cNvPr id="111" name="Rectangle 2"/>
            <p:cNvSpPr/>
            <p:nvPr/>
          </p:nvSpPr>
          <p:spPr>
            <a:xfrm>
              <a:off x="1360440" y="1733400"/>
              <a:ext cx="6418080" cy="403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Line 3"/>
            <p:cNvSpPr/>
            <p:nvPr/>
          </p:nvSpPr>
          <p:spPr>
            <a:xfrm>
              <a:off x="4569480" y="1733400"/>
              <a:ext cx="0" cy="4051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4"/>
            <p:cNvSpPr/>
            <p:nvPr/>
          </p:nvSpPr>
          <p:spPr>
            <a:xfrm>
              <a:off x="1360440" y="2700000"/>
              <a:ext cx="6418080" cy="2099520"/>
            </a:xfrm>
            <a:custGeom>
              <a:avLst/>
              <a:gdLst>
                <a:gd name="textAreaLeft" fmla="*/ 0 w 6418080"/>
                <a:gd name="textAreaRight" fmla="*/ 6418440 w 6418080"/>
                <a:gd name="textAreaTop" fmla="*/ 0 h 2099520"/>
                <a:gd name="textAreaBottom" fmla="*/ 2099880 h 2099520"/>
              </a:gdLst>
              <a:ahLst/>
              <a:rect l="textAreaLeft" t="textAreaTop" r="textAreaRight" b="textAreaBottom"/>
              <a:pathLst>
                <a:path w="3200" h="1047">
                  <a:moveTo>
                    <a:pt x="0" y="196"/>
                  </a:moveTo>
                  <a:cubicBezTo>
                    <a:pt x="8" y="166"/>
                    <a:pt x="21" y="138"/>
                    <a:pt x="64" y="112"/>
                  </a:cubicBezTo>
                  <a:cubicBezTo>
                    <a:pt x="107" y="86"/>
                    <a:pt x="157" y="59"/>
                    <a:pt x="258" y="41"/>
                  </a:cubicBezTo>
                  <a:cubicBezTo>
                    <a:pt x="359" y="23"/>
                    <a:pt x="524" y="4"/>
                    <a:pt x="671" y="2"/>
                  </a:cubicBezTo>
                  <a:cubicBezTo>
                    <a:pt x="818" y="0"/>
                    <a:pt x="1012" y="8"/>
                    <a:pt x="1142" y="28"/>
                  </a:cubicBezTo>
                  <a:cubicBezTo>
                    <a:pt x="1272" y="48"/>
                    <a:pt x="1378" y="73"/>
                    <a:pt x="1451" y="125"/>
                  </a:cubicBezTo>
                  <a:cubicBezTo>
                    <a:pt x="1524" y="177"/>
                    <a:pt x="1548" y="254"/>
                    <a:pt x="1580" y="338"/>
                  </a:cubicBezTo>
                  <a:cubicBezTo>
                    <a:pt x="1612" y="422"/>
                    <a:pt x="1607" y="538"/>
                    <a:pt x="1645" y="628"/>
                  </a:cubicBezTo>
                  <a:cubicBezTo>
                    <a:pt x="1683" y="718"/>
                    <a:pt x="1702" y="814"/>
                    <a:pt x="1806" y="880"/>
                  </a:cubicBezTo>
                  <a:cubicBezTo>
                    <a:pt x="1910" y="946"/>
                    <a:pt x="2128" y="997"/>
                    <a:pt x="2271" y="1022"/>
                  </a:cubicBezTo>
                  <a:cubicBezTo>
                    <a:pt x="2414" y="1047"/>
                    <a:pt x="2544" y="1043"/>
                    <a:pt x="2664" y="1028"/>
                  </a:cubicBezTo>
                  <a:cubicBezTo>
                    <a:pt x="2784" y="1013"/>
                    <a:pt x="2904" y="969"/>
                    <a:pt x="2993" y="931"/>
                  </a:cubicBezTo>
                  <a:cubicBezTo>
                    <a:pt x="3082" y="893"/>
                    <a:pt x="3137" y="850"/>
                    <a:pt x="3200" y="802"/>
                  </a:cubicBezTo>
                </a:path>
              </a:pathLst>
            </a:custGeom>
            <a:noFill/>
            <a:ln w="50760">
              <a:solidFill>
                <a:srgbClr val="ffb30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AutoShape 5"/>
            <p:cNvSpPr/>
            <p:nvPr/>
          </p:nvSpPr>
          <p:spPr>
            <a:xfrm>
              <a:off x="2511720" y="1811520"/>
              <a:ext cx="737640" cy="789840"/>
            </a:xfrm>
            <a:prstGeom prst="sun">
              <a:avLst>
                <a:gd name="adj" fmla="val 25000"/>
              </a:avLst>
            </a:prstGeom>
            <a:solidFill>
              <a:srgbClr val="fef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AutoShape 6"/>
            <p:cNvSpPr/>
            <p:nvPr/>
          </p:nvSpPr>
          <p:spPr>
            <a:xfrm>
              <a:off x="5889240" y="1929600"/>
              <a:ext cx="414720" cy="802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91a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 Box 7"/>
            <p:cNvSpPr/>
            <p:nvPr/>
          </p:nvSpPr>
          <p:spPr>
            <a:xfrm>
              <a:off x="5481360" y="4821840"/>
              <a:ext cx="156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2400" spc="-1" strike="noStrike">
                  <a:solidFill>
                    <a:srgbClr val="000000"/>
                  </a:solidFill>
                  <a:latin typeface="Arial"/>
                </a:rPr>
                <a:t>Сува ноћ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Rectangle 12"/>
          <p:cNvSpPr/>
          <p:nvPr/>
        </p:nvSpPr>
        <p:spPr>
          <a:xfrm>
            <a:off x="7856640" y="285840"/>
            <a:ext cx="10015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2929680" y="529200"/>
            <a:ext cx="2683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ОДУКЦИЈА УР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ДЕЦА БЕЗ ЕНУРЕЗ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2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1"/>
          <p:cNvSpPr/>
          <p:nvPr/>
        </p:nvSpPr>
        <p:spPr>
          <a:xfrm>
            <a:off x="6661080" y="6570720"/>
            <a:ext cx="21337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Group 9"/>
          <p:cNvGrpSpPr/>
          <p:nvPr/>
        </p:nvGrpSpPr>
        <p:grpSpPr>
          <a:xfrm>
            <a:off x="1365120" y="1733400"/>
            <a:ext cx="6416280" cy="4051080"/>
            <a:chOff x="1365120" y="1733400"/>
            <a:chExt cx="6416280" cy="4051080"/>
          </a:xfrm>
        </p:grpSpPr>
        <p:sp>
          <p:nvSpPr>
            <p:cNvPr id="122" name="Rectangle 2"/>
            <p:cNvSpPr/>
            <p:nvPr/>
          </p:nvSpPr>
          <p:spPr>
            <a:xfrm>
              <a:off x="1365120" y="1733400"/>
              <a:ext cx="6416280" cy="403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Line 3"/>
            <p:cNvSpPr/>
            <p:nvPr/>
          </p:nvSpPr>
          <p:spPr>
            <a:xfrm>
              <a:off x="4573080" y="1733400"/>
              <a:ext cx="0" cy="4051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1365120" y="2914200"/>
              <a:ext cx="6402240" cy="2015640"/>
            </a:xfrm>
            <a:custGeom>
              <a:avLst/>
              <a:gdLst>
                <a:gd name="textAreaLeft" fmla="*/ 0 w 6402240"/>
                <a:gd name="textAreaRight" fmla="*/ 6402600 w 6402240"/>
                <a:gd name="textAreaTop" fmla="*/ 0 h 2015640"/>
                <a:gd name="textAreaBottom" fmla="*/ 2016000 h 2015640"/>
              </a:gdLst>
              <a:ahLst/>
              <a:rect l="textAreaLeft" t="textAreaTop" r="textAreaRight" b="textAreaBottom"/>
              <a:pathLst>
                <a:path w="3193" h="1005">
                  <a:moveTo>
                    <a:pt x="0" y="809"/>
                  </a:moveTo>
                  <a:cubicBezTo>
                    <a:pt x="8" y="839"/>
                    <a:pt x="21" y="867"/>
                    <a:pt x="64" y="893"/>
                  </a:cubicBezTo>
                  <a:cubicBezTo>
                    <a:pt x="107" y="919"/>
                    <a:pt x="157" y="946"/>
                    <a:pt x="258" y="964"/>
                  </a:cubicBezTo>
                  <a:cubicBezTo>
                    <a:pt x="359" y="982"/>
                    <a:pt x="524" y="1001"/>
                    <a:pt x="671" y="1003"/>
                  </a:cubicBezTo>
                  <a:cubicBezTo>
                    <a:pt x="818" y="1005"/>
                    <a:pt x="1012" y="997"/>
                    <a:pt x="1142" y="977"/>
                  </a:cubicBezTo>
                  <a:cubicBezTo>
                    <a:pt x="1272" y="957"/>
                    <a:pt x="1378" y="932"/>
                    <a:pt x="1451" y="880"/>
                  </a:cubicBezTo>
                  <a:cubicBezTo>
                    <a:pt x="1524" y="828"/>
                    <a:pt x="1548" y="751"/>
                    <a:pt x="1580" y="667"/>
                  </a:cubicBezTo>
                  <a:cubicBezTo>
                    <a:pt x="1612" y="583"/>
                    <a:pt x="1607" y="467"/>
                    <a:pt x="1645" y="377"/>
                  </a:cubicBezTo>
                  <a:cubicBezTo>
                    <a:pt x="1683" y="287"/>
                    <a:pt x="1738" y="186"/>
                    <a:pt x="1806" y="125"/>
                  </a:cubicBezTo>
                  <a:cubicBezTo>
                    <a:pt x="1874" y="64"/>
                    <a:pt x="1921" y="0"/>
                    <a:pt x="2051" y="11"/>
                  </a:cubicBezTo>
                  <a:cubicBezTo>
                    <a:pt x="2181" y="22"/>
                    <a:pt x="2433" y="116"/>
                    <a:pt x="2587" y="192"/>
                  </a:cubicBezTo>
                  <a:cubicBezTo>
                    <a:pt x="2741" y="268"/>
                    <a:pt x="2873" y="397"/>
                    <a:pt x="2974" y="469"/>
                  </a:cubicBezTo>
                  <a:cubicBezTo>
                    <a:pt x="3075" y="541"/>
                    <a:pt x="3148" y="592"/>
                    <a:pt x="3193" y="624"/>
                  </a:cubicBezTo>
                </a:path>
              </a:pathLst>
            </a:custGeom>
            <a:noFill/>
            <a:ln w="50760">
              <a:solidFill>
                <a:srgbClr val="ffb30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AutoShape 5"/>
            <p:cNvSpPr/>
            <p:nvPr/>
          </p:nvSpPr>
          <p:spPr>
            <a:xfrm>
              <a:off x="2516040" y="1811520"/>
              <a:ext cx="737280" cy="789840"/>
            </a:xfrm>
            <a:prstGeom prst="sun">
              <a:avLst>
                <a:gd name="adj" fmla="val 25000"/>
              </a:avLst>
            </a:prstGeom>
            <a:solidFill>
              <a:srgbClr val="fef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AutoShape 6"/>
            <p:cNvSpPr/>
            <p:nvPr/>
          </p:nvSpPr>
          <p:spPr>
            <a:xfrm>
              <a:off x="5892840" y="1929600"/>
              <a:ext cx="414360" cy="802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91a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Text Box 7"/>
            <p:cNvSpPr/>
            <p:nvPr/>
          </p:nvSpPr>
          <p:spPr>
            <a:xfrm>
              <a:off x="5482080" y="4575240"/>
              <a:ext cx="141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2400" spc="-1" strike="noStrike">
                  <a:solidFill>
                    <a:srgbClr val="000000"/>
                  </a:solidFill>
                  <a:latin typeface="Arial"/>
                </a:rPr>
                <a:t>Енуреза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8" name="Rectangle 12"/>
          <p:cNvSpPr/>
          <p:nvPr/>
        </p:nvSpPr>
        <p:spPr>
          <a:xfrm>
            <a:off x="7861320" y="295200"/>
            <a:ext cx="958680" cy="9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5634000" y="9288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2654280" y="506520"/>
            <a:ext cx="342756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15"/>
          <p:cNvSpPr/>
          <p:nvPr/>
        </p:nvSpPr>
        <p:spPr>
          <a:xfrm>
            <a:off x="3278880" y="645120"/>
            <a:ext cx="2683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ОДУКЦИЈА УР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КОД ДЕЦЕ СА ЕНУРЕЗ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55640" y="2060280"/>
            <a:ext cx="79200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360"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Енуреза је појава невољне микције, најчешће у току ноћи, ређе дању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0" y="1752480"/>
            <a:ext cx="914400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7d31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АНАМНЕ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ФИЗИКАЛНИ ПРЕГЛЕ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НЕИНВАЗИНА ИСПИТИ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971800" y="3886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4"/>
          <p:cNvSpPr/>
          <p:nvPr/>
        </p:nvSpPr>
        <p:spPr>
          <a:xfrm flipH="1">
            <a:off x="2285280" y="3581280"/>
            <a:ext cx="152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5013360" y="414360"/>
            <a:ext cx="32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4114800" y="45720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2166840" y="338040"/>
            <a:ext cx="451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800" spc="-1" strike="noStrike">
                <a:solidFill>
                  <a:srgbClr val="000000"/>
                </a:solidFill>
                <a:latin typeface="Tahoma"/>
              </a:rPr>
              <a:t>ИСПИТИВАЊ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2413080" y="3570120"/>
            <a:ext cx="419076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Преглед ури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Осмолалност ури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Дневник мокрењ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Ултразвук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3300" spc="-1" strike="noStrike">
                <a:solidFill>
                  <a:srgbClr val="000000"/>
                </a:solidFill>
                <a:latin typeface="Calibri Light"/>
              </a:rPr>
              <a:t>Терапија некада...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Вруће вино и уље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Изгорети вољку од петла и дати да се попије са млаком водом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Одгристи главу жабе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Цветови хризентеме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Обријани зечији тестиси у вину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Опијум, камфор, беладона, стрихнин, хлорал хидрат..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 Seven Books of Paulus Ægineta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, 184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643280" y="1825200"/>
            <a:ext cx="38721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Подаци о раним облицима лечења датирају из 1500. пХ, што говори да енуреза представља стари проблем у медицини. Многи стари видови лечења су непријатни, попут одгризања жабље главе и не могу се поредити са модерним терапијским интервенцијам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RS" sz="4400" spc="-1" strike="noStrike">
                <a:solidFill>
                  <a:srgbClr val="000000"/>
                </a:solidFill>
                <a:latin typeface="Calibri Light"/>
              </a:rPr>
              <a:t>Терапија дана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4800" spc="-1" strike="noStrike">
                <a:solidFill>
                  <a:srgbClr val="000000"/>
                </a:solidFill>
                <a:latin typeface="Calibri"/>
              </a:rPr>
              <a:t>Фармакотерапија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300" spc="-1" strike="noStrike">
                <a:solidFill>
                  <a:srgbClr val="000000"/>
                </a:solidFill>
                <a:latin typeface="Calibri"/>
              </a:rPr>
              <a:t>ДЕЗМОПРЕСИН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4800" spc="-1" strike="noStrike">
                <a:solidFill>
                  <a:srgbClr val="000000"/>
                </a:solidFill>
                <a:latin typeface="Calibri"/>
              </a:rPr>
              <a:t>Кондиционирана терапиј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300" spc="-1" strike="noStrike">
                <a:solidFill>
                  <a:srgbClr val="000000"/>
                </a:solidFill>
                <a:latin typeface="Calibri"/>
              </a:rPr>
              <a:t>ЕНУРЕЗА АЛАРМ</a:t>
            </a:r>
            <a:r>
              <a:rPr b="0" lang="hr-HR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2"/>
          <p:cNvSpPr/>
          <p:nvPr/>
        </p:nvSpPr>
        <p:spPr>
          <a:xfrm>
            <a:off x="1258920" y="6356520"/>
            <a:ext cx="63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900" spc="-1" strike="noStrike" u="sng">
                <a:solidFill>
                  <a:srgbClr val="000000"/>
                </a:solidFill>
                <a:uFillTx/>
                <a:latin typeface="Arial"/>
              </a:rPr>
              <a:t>УКОЛИКО ВАШЕ ДЕТЕ ПИШКИ НОЋУ У КРЕВЕТ, ОБРАТИТЕ СЕ ВАШЕМ ПЕДИЈАТРУ</a:t>
            </a:r>
            <a:r>
              <a:rPr b="0" lang="sr-Latn-RS" sz="900" spc="-1" strike="noStrike" u="sng">
                <a:solidFill>
                  <a:srgbClr val="000000"/>
                </a:solidFill>
                <a:uFillTx/>
                <a:latin typeface="Arial"/>
              </a:rPr>
              <a:t>!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BA84-0C0B-484E-BD70-F02C6E14C084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286000" y="-5135400"/>
            <a:ext cx="4359240" cy="110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ПИТНИК ЗА РОДИТЕЉЕ ДЕЦЕ ИЗ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ШКОЛСКИХ УСТАН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 ли се дете умокрава ноћу у току спавања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</a:t>
            </a:r>
            <a:r>
              <a:rPr b="0" lang="sr-R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или у току дневног спавања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)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sr-R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 ли дете влажи веш у току дана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sr-R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 ли је постојао период дужи од 6 месеци када је дете било суво у току ноћи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0" lang="sr-R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3300" spc="-1" strike="noStrike">
                <a:solidFill>
                  <a:srgbClr val="000000"/>
                </a:solidFill>
                <a:latin typeface="Calibri Light"/>
              </a:rPr>
              <a:t>Сајт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en-US" sz="3300" spc="-1" strike="noStrike" u="sng">
                <a:solidFill>
                  <a:srgbClr val="000000"/>
                </a:solidFill>
                <a:uFillTx/>
                <a:latin typeface="Calibri Light"/>
              </a:rPr>
              <a:t>www.nocnoumokravanje.com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836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пецијализовани сајт намењен родитељима деце са проблемом ноћног умокрава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адржај сајта</a:t>
            </a:r>
            <a:r>
              <a:rPr b="0" lang="sr-Latn-RS" sz="2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Основне информације о ноћном умокравањ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Митови и заблуд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ајчешћа пита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ветске препорук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реглед штамп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нтак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52320" y="83628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Родитељи би требало да имају у виду да деца веома ретко или скоро никада не пишке ноћу у кревет намерно. Уместо да дете критикују или му прете батинама, боље је да га охрабре, пруже позитивну подршку и веру да ће ускоро престати то да рад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еопходно је да се родитељи деце која мокре придржавају неких упутста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52320" y="9806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братити пажњу на конзумирање течности пре спавања, охрабрити дете да пишки пре спавања, будити дете током ноћи да пишки, похвалити дете када се ујутру пробуди сув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збегавати било какву врсту кажњавања, консултовати се са лекаром и уколико има потребе пружити детету адекватну терапиј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684000" y="130932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ека деца нису довољно мотивисана да се сама лече. Она наводе да им не смета што је постеља мокра. Да би се мотивисала на сарадњу и самопомоћ, родитељима се саветује да их натерају да сваког јутра сама промене своју постељину. То није казна и не треба је у виду наредбе и прекор наметати детет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52320" y="105228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реба га замолити да само уради овај посао, а када му то досади, може се десити да несвесно престане или мање учестало мокри у кревет. Ослобађање од овог задатка деца доживљавају као награду која повећава мотивацију з лечењ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28560" y="130932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Благовремено јављање лекару и психологу може допринети решавању овог проблема у великом броју случаје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 Light"/>
              </a:rPr>
              <a:t>НОЋНО УМОКРАВАЊЕ КОД ДЕЦЕ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ема периоду дана у коме се појављује разликујем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невно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мокравање које се поставља као дијагноза код оне деце која су навршила три године, а током будног стања се умокравају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nuresis nocturna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ли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оћна енуреза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се сматра поремећајем код десе која су навршила барем пет год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55280" y="1825200"/>
            <a:ext cx="77598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оћно умокравање се дефинише као невољно пражњење мокраће током сна, најмање три пута недељно код деце старије од 5 година или одраслих у одсуству конгениталних или стечених поремећаја централног нервног система (ЦНС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во је мучан симптом који лоше утиче на квалитет живо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33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 Light"/>
              </a:rPr>
              <a:t>НОЋНО УМОКРАВАЊЕ КОД ДЕЦЕ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оћно мокрење представља поремећај који се карактерише немогућношћу контролисања започетог процеса мокрења у току с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ако долази до поремећаја мокрења сви органи генито-уринарног тракта су здрави и нормално функционишу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 Light"/>
              </a:rPr>
              <a:t>НОЋНО УМОКРАВАЊЕ КОД ДЕЦЕ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 односу на податак о раније успостављеној контроли сфинктера, делимо је н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имарну енурезу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, која означава да дете никада није успоставило контролу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екундарну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, где је постојао известан период у коме се дете континуирано није умокравало (дужи од 6 месец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33440" y="218880"/>
            <a:ext cx="661968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3300" spc="-1" strike="noStrike">
                <a:solidFill>
                  <a:srgbClr val="000000"/>
                </a:solidFill>
                <a:latin typeface="Calibri Light"/>
              </a:rPr>
              <a:t>МОНОСИМПТОМАТСКУ ЕНУРЕЗУ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33440" y="1278000"/>
            <a:ext cx="836136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КАРАКТЕРИШЕ НОРМАЛАН АКТ МОКРЕЊ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7589880" y="176040"/>
            <a:ext cx="1378080" cy="12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1064160" y="2652840"/>
            <a:ext cx="419004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БЕЗ ДЕНВНЕ ИНКОНТИНЕН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БЕЗ УРГЕН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БЕЗ ФРЕКВЕНТНИХ МИК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ОРМАЛАН ЕХО НАЛА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ОТПУНО ПРАЖЊЕЊЕ БЕШИ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8704440" y="6492960"/>
            <a:ext cx="43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27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 Light"/>
              </a:rPr>
              <a:t>МОНОСИМПТОМАТСКА НОЋНА ЕНУРЕЗА - УЧЕСТАЛОСТ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1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1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hr-HR" sz="4000" spc="-1" strike="noStrike">
                <a:solidFill>
                  <a:srgbClr val="000000"/>
                </a:solidFill>
                <a:latin typeface="Calibri"/>
              </a:rPr>
              <a:t>20-25%       </a:t>
            </a: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го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hr-HR" sz="4000" spc="-1" strike="noStrike">
                <a:solidFill>
                  <a:srgbClr val="000000"/>
                </a:solidFill>
                <a:latin typeface="Calibri"/>
              </a:rPr>
              <a:t>10%           </a:t>
            </a: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4000" spc="-1" strike="noStrike">
                <a:solidFill>
                  <a:srgbClr val="000000"/>
                </a:solidFill>
                <a:latin typeface="Calibri"/>
              </a:rPr>
              <a:t>7 </a:t>
            </a: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го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hr-HR" sz="4000" spc="-1" strike="noStrike">
                <a:solidFill>
                  <a:srgbClr val="000000"/>
                </a:solidFill>
                <a:latin typeface="Calibri"/>
              </a:rPr>
              <a:t>7%          10  </a:t>
            </a: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го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4300" spc="-1" strike="noStrike">
                <a:solidFill>
                  <a:srgbClr val="000000"/>
                </a:solidFill>
                <a:latin typeface="Tahoma"/>
              </a:rPr>
              <a:t>Узроци ноћног умокравања</a:t>
            </a:r>
            <a:endParaRPr b="0" lang="en-US" sz="4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3772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92d050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RS" sz="2100" spc="-1" strike="noStrike">
                <a:solidFill>
                  <a:srgbClr val="000000"/>
                </a:solidFill>
                <a:latin typeface="Calibri"/>
              </a:rPr>
              <a:t>ПОРОДИЧНИ И ГЕНСКИ ФАКТОРИ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92d050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92d050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RS" sz="2100" spc="-1" strike="noStrike">
                <a:solidFill>
                  <a:srgbClr val="000000"/>
                </a:solidFill>
                <a:latin typeface="Calibri"/>
              </a:rPr>
              <a:t>ПСИХОЛОШКИ ФАКТОРИ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92d050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92d050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RS" sz="2100" spc="-1" strike="noStrike">
                <a:solidFill>
                  <a:srgbClr val="000000"/>
                </a:solidFill>
                <a:latin typeface="Calibri"/>
              </a:rPr>
              <a:t>ЧВРСТ САН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92d050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92d050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RS" sz="2100" spc="-1" strike="noStrike">
                <a:solidFill>
                  <a:srgbClr val="000000"/>
                </a:solidFill>
                <a:latin typeface="Calibri"/>
              </a:rPr>
              <a:t>СМАЊЕНО ЛУЧЕЊЕ ПРИРОДНЕ СУПСТАНЦЕ - ВАЗОПРЕСИН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0T09:49:38Z</dcterms:created>
  <dc:creator>Aleksandar Cukanovic</dc:creator>
  <dc:description/>
  <dc:language>en-US</dc:language>
  <cp:lastModifiedBy>Sveta</cp:lastModifiedBy>
  <cp:lastPrinted>2012-09-10T14:19:39Z</cp:lastPrinted>
  <dcterms:modified xsi:type="dcterms:W3CDTF">2016-05-04T11:21:49Z</dcterms:modified>
  <cp:revision>40</cp:revision>
  <dc:subject/>
  <dc:title>PowerPoint Presentation</dc:title>
</cp:coreProperties>
</file>