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camera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9B3-637E-4970-851F-2F451B3B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C77-DFEC-4557-A854-5DB21C58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ACB-54CE-4E42-A9FE-945335A5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391-B705-494D-985F-28ED069E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228-9C4B-4A77-92B0-E2551F73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3C1-13C9-4B36-AB5A-729EF1A2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EC5-3DBA-471F-8066-0B838045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A83-906F-4099-BBA7-CA4DCBD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FA3-87D5-4B51-8836-4FE6EEBA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FB1-74FE-4CCD-AAF2-0892787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EBE-CB8F-43FB-93B0-D87BCB18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A92-9D5A-4E66-9537-F5700755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CDE1-95A9-44C1-BFC6-8A4304FF3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507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а опоравка – полиур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еколико да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апетит се поправља, али болесник “мршави” због појачане диурез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нагли пораст осмотски изазване диурезе јавља се као последица бржег опоравка гломерулске од тубулских функц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бољшање општег стања праћено је нормализацијом биохемијских парамета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урина – седимент, уринокултура, биохе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кр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лектролити серума (K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Cа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ацидобазно стање (pH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уреа и креатинин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рење диурезе (катетер у м. бешици првих 48 са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924680" cy="4141800"/>
        </p:xfrm>
        <a:graphic>
          <a:graphicData uri="http://schemas.openxmlformats.org/drawingml/2006/table">
            <a:tbl>
              <a:tblPr/>
              <a:tblGrid>
                <a:gridCol w="4000680"/>
                <a:gridCol w="2232000"/>
                <a:gridCol w="169200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ЕКСИ АБ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ЕА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НИН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у УРИНU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a   (uNa/pNa) :  (uCr/pCr) 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    uNa : (uCr/pC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споставити нормалну перфузију бубрега и диуре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0-30ml/kg 0,9%NaCl за 3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1-5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/kg/min Допам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-5mg/kг Фуросем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диреза не наступи за 2-4h сматра се да је дошло до структурних оштећења бубре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граничити унос течности на 300-350m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 или 15ml/kg плус екстра губитци (повраћање, пролив, зноје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електролит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7,5mmol/l : 0,2-05ml/kg 10% Ca-глукона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или инфузија глукозе са инсули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6,5mmol/l : 0,5g/kg смоле за размену катјон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орално у 100ml 10% глукоз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Ca &lt; 2mmol/kg : 0,5ml/kg Ca-глукон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ацидобаз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pH &lt; 7-7,2 :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безбедити одговарајући калоријски унос давањем хипертоног раствора глукозе (400Kca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) чиме се смањује катаболизам, азотемија и хиперкалиј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Индикације за дијализ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нурија која траје дуже од 24-4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горшање “уремичног ст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 &gt; 7,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 &lt; 1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H &lt; 7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реа &gt; 4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920" y="19890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АБИ је клиничко стање које карактерише нагло смањење функције бубрега у тој мери да не може да се одржи водено електролитна хомеостаза и излуче продукти азотног метабол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олигоанурија: диуреза мања од 200-250 ml/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24h или мања од 10 ml/h код малог детета или мања од 0,5-1ml/k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већање концентрације урее и креатинина у серуму за 2 до 2,5 пута у односу на референтне вредности за узраст де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Подела АБИ по етиопатогене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ре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енална хипоперфузија и смањење ЈГФ (реверзибилно, без структурног оштеће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исхемија предуго траје долази до органских промена на тубулима и развоја акутне тубуларне некр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ост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настаје због опструкције уринарних пу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емодинамск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хемора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ешка дехидрација (повраћање и про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шок (септички, постоперат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губитак у “трећи простор” (асцитес, плеурални из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рчана 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оксичн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ндогени (миоглобин, хемоглобин, крис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гзогени (антибиотици, тешки ме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стисхемична А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кутна тубулска нефр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ломеруло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ПГН, рапидно прогрес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Васкулит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ХУС, ДИК, тромбозе и емболиј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терстицијски 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инфекције, лекови)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утизација Х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ЈГФ пада за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ост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конгениталне (V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стече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алкул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кстра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Клиничка слика пререналне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Зависи од уз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 деце и одојчади преренална АБИ најчешће настаје збод тешке дехидра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сува кожа без тургора и еластицитета, суве слузокоже, упале очне јабучице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коју прате симптоми циркулаторне инсуфицијен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бледило, хладни екстремитети, хипотензија, слаб и убрзан пул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ласичан клинички ток АБИ пролази кроз три јасно дефинисана клиничка стадију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Иницијална ф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траје неколио дана до две недељ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болесник често није ни свестан обољења, може да има изражен “централни” осећај жеђ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јачина диурезе и осмоларност урина су смањени (Uosm = 350mosm/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a одржавaњ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eколико сати до једнe nедeљ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знаци прогrесивне азотемије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бледило, малaксалост, отoци л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ца, aцидотично дисање, губитак aпети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а, повраћaње, штуцање, грче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јавa компликација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дeм плућа, енцeфалопатија, дигестивна крва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ња, инфекциј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олигоанурија уз пораст осмoларности урина Uosm = 1000mosm/k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днев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и пораст aз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eм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јe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eлeк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литн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поремећа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49:49Z</dcterms:created>
  <dc:creator>Impuls</dc:creator>
  <dc:description/>
  <dc:language>en-US</dc:language>
  <cp:lastModifiedBy>User</cp:lastModifiedBy>
  <dcterms:modified xsi:type="dcterms:W3CDTF">2014-08-12T13:14:09Z</dcterms:modified>
  <cp:revision>25</cp:revision>
  <dc:subject/>
  <dc:title>Akutna bubrežna insuficijencija</dc:title>
</cp:coreProperties>
</file>