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8C7B-0D6D-411E-9632-4E26F9E0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EA1-6E97-4013-8BFF-D8DF78350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3229-944E-4474-8D76-0E7D7E845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0AAD-BC75-43A9-B96A-4F1F049D71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AA32-F873-49B2-A45A-EC49A12FF8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18AA-BB00-419F-A6A8-C28B879B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84D7-47FE-4891-B8E6-747FCB1154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02F-3EEA-49FF-B225-1128A897AF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47AE-5959-4CED-A6B6-A28FD2DEB2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BF7D-EB0A-4EB4-A8FE-7434E11B40B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6CDF-1895-4F12-B362-E5C91E91FC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E6FF-D3FD-43E5-AFD0-2E8F64C79A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1B94-7769-4C68-8167-F83A1CB6A2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6DC-0F2C-46D3-BCB9-38A048A839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17D8-4368-4EA3-BA71-72D5AC6A3E9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7BA8-D6D7-4663-A52A-102474FDC7F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1591-CA92-44B1-8773-4DE4D5AB79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E521-EE3F-40A3-A12E-353AD073D7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A96B-A120-47E3-B8DE-3387E74267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CD40-17B9-4A8E-811E-7EBE42998BD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C172-61E9-47B5-8D31-994238C25A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0647-4D88-4296-9FFD-2664955995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8359-D1A2-4575-B71B-725AF0141F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DA6A-EBE9-4685-9800-B97660CF7F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77F-F056-4FE7-B824-30F4CEAF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5BE-5A30-47FE-9442-DD7FB4D3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3B7-356B-4C04-9E79-BBCA0F9A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578-363D-4D42-9DD3-A75D8585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F1B-6C4B-4B49-A207-008A0A1C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F3E-1EB6-4774-8937-A3C47E92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512-7ED6-462D-98D3-52AD9D0D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D6C-CC85-468D-86A6-0C647EB1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27F-AB67-4252-B272-56772D70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820-A0B0-43A6-A7AB-B538020D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8AE-BEB7-4305-BF1D-2545F44C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831-0CCF-4C04-81FC-52EDA8B1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4C1B-9470-4583-8E46-86AAF42F4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295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64008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5760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 је трећи кардинални знак АПСГН и евидентирана је код 50-90% деце хоспитализоване због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је виђена у приближно 5% хоспитализоване деце и представља најозбиљнију рану комликацију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 пацијенти имају тешку хипертензију (200/120 mмHg) удружену са знацима дисфункције ЦНС-а (главобоља, повраћање, сензорна депресија, конфузија, визуелни поремећаји, афазија, губитак памћења,конвулзије, ком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се виђе и код пацијената без или са минималним едемом и минималним уринарним абнормалностим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68280"/>
            <a:ext cx="84643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иркулаторна конгестија је уочљива код већине хоспитализоване деце, али је одговорна само за врло ране симптоме: диспнеја, ортопнеја, кашаљ; аускултацијом плућа чују се инспираторо-експираторни пук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некад је једини знак циркулаторне конгестије увећана срчана сен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 тз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лерадиографији, мада је с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 инсуфицијенција ретка појава код пацијената са иначе здравим кардиоваскуларним системом; срчана радња може бити тахикардична или брадикард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Бледило се обично јавља на почетку болести и не може се потпуно објаснити анем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 –налаз  у ур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 g/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дан; само 2-5% деце са АПСГН има протеинурију нефротског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стрептококне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Bris guše i kože mogu, a ne moraju biti pozitivni kod APS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употреби су бројни лабораторијски тестови који мере титар антитела на различите стрептококне антигене (ASO, AH, Anti DNAaze B) или комбинације антигена; значајно је пратитити кретање титра после 2-3 недељ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хемолитички комлпе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C5 и пропердина такође оп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бубрежне инсуфицијенције</a:t>
            </a:r>
            <a:r>
              <a:rPr b="1" i="1" lang="sr-C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6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ње серумске концентрације креатинина и азотних материја је умерено, мада неки пацијенти могу имати тешку азотем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литни профил  је обично нормалан;  хиперкалемија и метаболичка ацидоза су присутне само код пацијената са значајно смањеном функцијом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пацијената са клиничком сликом Нефротског синдрома може бити снижен укупни серумски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ага анемија (нормоцитна, нормохромна) је честа у раној фази АПСГН при чему њен степен одговара степену експанзије екстрацелуларног волу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ултрасонографија је обично нормална или показује благо билатерално увећање бубрега са порастом ехоге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адиографија срца и плућа показује увећану срчану сенку и централну венску конгест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биопсија је индикована код пацијената чија је клиничка слика, лабораторијски налази и ток болести атипичан; хистолошки налаз се заснива на налазу светлосне, имунофлуоресцентне и електронске микроскоп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сматрано светлосним микроскопом гломеруларне промене су генерализоване и дифузне; гломерулска петља је увећана и проширена са умерено повећаном пролиферацијом мезангијалних и епителних ћелиј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особа са најтежим обликом болести гломерули изгледају бескрвно јер едем капиларног зида омета перфузију гломеру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 претходног можемо закључити да постоји директна корелација између тежине хистолошких промена и клиничких манифестација болести у акутној фази АПСГ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51240"/>
        </p:xfrm>
        <a:graphic>
          <a:graphicData uri="http://schemas.openxmlformats.org/drawingml/2006/table">
            <a:tbl>
              <a:tblPr/>
              <a:tblGrid>
                <a:gridCol w="4186080"/>
                <a:gridCol w="4043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purpura 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2860200" y="5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08000" y="2871000"/>
            <a:ext cx="870588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063800" y="2852640"/>
            <a:ext cx="674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СТРЕПТОКОК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КВ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МЕРУЛОНЕФРИ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да се испоље симптоми  АПСГН лезија гломерула се већ догодила и процес  излечења је почео. То значи да је прекасно за примену специфичне терапије против узрочника нефритиса. Супротно овоме одговарајућа терапија која је потпорна и директно усмерена на превенцију комликација  може значајно утицати на морбидитет и рани морталит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оспитализација је индикована код деце са значајном хипертензијом или комбинацијом олигурије, генерализованих едема и повишене концентрације серумског креатинина или калију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удружена са знацима централне дисфункције захтева хитну примену медикамената као што су: лабеталол</a:t>
            </a:r>
            <a:r>
              <a:rPr b="0" lang="sr-CS" sz="2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(0,5-2mg/kg/h iv), диазоxид или нитропрусид (0,5-2mcg/kg/min iv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без енцефалопатије се лечи најчешће применом вазодилататора као што су хидралазин или нифедип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лага или умерена хипертензија не захтева хитну примену терапије која подразумева мировање, рестрикцију уноса течности и ређе примену претходно наведених лекова (фуросемид, хидралазин); ACE инхибитори могу довести до хиперкалемије и обично нису лекови  првог реда код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 и циркулаторна конгестија као последица олигурије захтевају рестрикцију уноса течности тако да се надокнађују само тзв. “невидљиви губици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уретици примењени пер ос скраћују дужину хоспитализације едематозне деце, а код теже конгестије се дају парентерално (фуросемид 2mg/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тероидна терапија је индикована код пацијената са тешким обликом и рапидно-прогресивним G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еницилин се може применити да не би дошло до контактне инфекције са нефритогеним стрептококом мада у већини случајева ови контакти не доводе до АГН; ова терапија не утиче на ток болести, али може изменити имунолошки одгово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зимањем култура од најближих чланова породице могу се открити пацијенти са асимптоматским обликом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ета и физичка активн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еслана, ниско-протеинска дијета се прописује у акутној фази болести када су присутни едеми и хипертенз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 унос течности и соли се препоручује код деце  која имају било олигурију или ед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а физичка активност је индикована, у раној фази болести, код пацијената са хипертензијом и/или макрохематуриј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уже мировање не утиче нити на ток болести ни на дугорочну прогнозу, па се не препоручу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султација педијатра-нефролога је неопходна када су присутни један или више од доле наведених пробл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олиг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рализовани ед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тска 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зот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а макрохемат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ирање ниског нивоа C3 (дуже од 8-10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типичан почетак болести (без латентног педиода или доказа стрептоконе инфе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останак очекиване резолуције клиничких знакова АПСГН такође захтева консултацију педијатра-нефролог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акрохематурије унутар првих 10-14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икрохематурије у току годин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а за 2 недељ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отеинурије (&gt;50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mg/dl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) за 6 месе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зотемије за недeљ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ипертeнзије за 6 нeдeл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начни исход код особа оболелих од АПСГН зависи у великој мери од тежине иницијалног оштећења гломерул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амо код неколицине хоспитализованих пацијената је иницијално оштећење тако тешко да или перзистира бубрежна инсуфицијенција или прогредира у бубрежну инсуфицијенц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 већине оболелих долази до комплетне хистолошке регресије болести и коначан исход је доба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екундарне епизоде АПСГН су ретка појава, мада се клиничке манифестације болести могу јавити после прва 3 месец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Нефротски синдром у де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је клиничко стање које карактериш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масивна протеинур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опротеинем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ерлипидемиј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ед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гритис (АПСГН)  је акутно, имунолошким механизмима изазвано запаљење бубрега, које настаје, секундарно, као последица инфекције гуше или коже нефритогеним типовима β хемолитичког стрео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АПСГН)  је 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3: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јчешћи синоними за нефротски синдром у деце с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«Липоидна нефроз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ест епителних ћел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тикостероид сензитиван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«Nil Disease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диопатски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inimal Changes Nephrotic Syndrome (MC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Учестал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 најчеши облик нефротског синдрома у деце и јавља се у узрасту 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16 месеци до 16 година, улавном до шест година. У овој популацији учесталост се креће и до 9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ачни подаци о обољевању у нашој землји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еографска распрострањеност није једн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је наследно обољење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и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пажено да се фамилијарни случајеви јављају чешћ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шће оболјевају дечаци (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8001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тогенез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није добро разјашњена још увек, али се сматра да занчајну улогу имају поремећаји функције Т лимфоцита или/и моноцита који стварају цитокине и неке друге факторе васкуларне пермеабилности, који доводе до повећане пропустљивости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протеинурије. Заправо долази до губитка прстастих наставака епителијалних ћелија (подоцита) што резултира протеинуријом и следственом хипопротеинемиј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функције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 Ly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/или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Mo   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ктори васкуларне пермеабилности -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цитокини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GMB 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битак прстастих наставака подоцит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63640" y="2206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Пат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је битно другачији него у нефритичном синдрому. Повећање пропустљивос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BM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 протеине доводи до масивне протеинурије и консекутивне хипопротеинемије. Ово има за последицу снижење онкотског притиска, што доводи до преласка течности из васкуларног у интерстицијски простор, тј. до стварања едема. Због тим процесом изазване хиповолемије активира се ренин-ангиотензин-алдостерон систем, а хиповолемија и хемоконцентрација стимулишу лучење антидиуретског хормона. Удружени ефекти активације хормонског система имају за последицу ретенцију воде и натријума, који се због сниженог онкотског притиска задржавају у интерстицијуму и тако се затвара цирцулус витиосус у механизму настанка едема у нефротском синд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: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▪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 преласка течности из васкуларног у интерстицијски простор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волемије →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+ Хемоконцентра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 AD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ледица: ретен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circulus vitio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Клиничка сл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Основна клиничка манифестација јесте ед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У почетку болести настаје постепено тако да родитељи помисле да 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те добило у тежини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Првих дана опште стање није много поремећено тако да лекар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ко не уради анализу ур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може да помисли на алергиј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Појави едема углавном (не увек) претходи нека инфекција. Уколико се на време не препозна едем може постати јако изражен (анасарка, асцитес). Постоји универзална анасарка и изливи у абдоминалну дупљу, а много ређе (не зна се зашто) у плеуралну дупљ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Често имају оток лабија и скротума. Некада долази до пуцања коже и изласка едемске течности. Деца су бледа, без живости, уморна и радо сама леже у кревету. Мекане ушне шкољке и бразде на ноктима се могу запазити ако је болест дуже трај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1" i="1" lang="sr-C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може бити епидемијски, али се чешће јавља спорадично и при томе има сезонски к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серотипови β хемолитичког стреотокока групе А који изазивају нефритис су тип 12 када су у питању назофарингеалне инфекције и тип 49 у случају пиодерм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ринофарингитом латентни период до појаве АПСГН изноди приближно 10 дана при чему је код више од 80% пацијената повишен титар антистрептолизина О у се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променама на кожи теже је утврдити латентни период, а пораст АСО титра је нађен у само 50% случај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Олигурија је изражена у скоро свих болесника у почетку болести, па када се изгуби може се видети да су болесници потхрањени. Клиничка запажања казују да ови болесници имају повећану склоност к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тромбоемболијама, најчешће у реналним и плућним венама. Због ретенције воде и соли деца мога добити на тежини и до 20%. Болесници су склони инфекцијама (Грам позитивне и Грам негативне бактерије); лече се антибиотицима широког спектра и Пеницилино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Најзначајнији поремећај који постоји у ових болесника је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, која је у исто време и дијагностичка вредност. Протеинурија је «нефротска» ако је већа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g/kg/24h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или пак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40mg/h/m²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(у ноћном урину)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изражена јер су обично серумски протеини веома снижени, мањи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,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а један број болесника има и мању вредност од 4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.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Макрохематурија је изузетна, а микрохематурија може да се нађе у врло малом броју болесника с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CNS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ерлипид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један од главних знакова за нефротски синдром. Ниво укупног с. холестерола и фосфолипида је повишен. Триглицериди могу бити повишени, али не увек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. L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 у почетку болести, а з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H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су подељена мишлјења. У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седименту урин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у едемској и олигуричној фази могу се запазити бројне масне капи, овална масна тела, дегенерисане тубулске ћелије и бројни хијалини и хијалино-масни цилиндри. Јачина гломерулске филтрације у већини болесника је нормална, комплемент је у референтним вредностима.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а (троцифрен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2962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отеинур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g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50 mg/kg/24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опротеинем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l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0 g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ерлипидем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. холестерола и фосфолип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иглицерид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LDL i HD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дименту урина: масне капи, овална масна тела, дегенерисане тубулске ћелије, бројни хијалини и хијалино-масни цилинд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оцифрена</a:t>
            </a:r>
            <a:r>
              <a:rPr b="0" lang="sr-C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ечење: 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вој епизоди нефротског синдрома потребна је хоспитализација детета, не само ради постављања дијагнозе и лечења, већ и због информисања родитеља о обољењ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ечење је компликовано, а терапија се може поделити на симптоматску и специфичну (кортикостероиди, имуносупреси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жељно је пре започињања било које терапије искључити секундарни нефротски синдром, као и друге облике овог синдрома до којих углавном долазимо биопсијом бубр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мптоматска терапија: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фази едема треба ограничити унос течности и дати неслану храну са оптималним уносом проте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колико су едеми јаче изражени може се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уросемид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5-3 mg/kg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 про дози (може се поновити два пута за 24 сата)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рез- хиповолемијски ш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случају изражених едема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умане албум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,5-1 g/k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инфузији која траје око 1-2 сата и на крају фуросем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тивност болесника се ограничава у едемској фази (дете ће само да лег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 углавном неслана, касније се дозвољава мањи унос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о болест дуго траје може се дa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it. D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 јако изражене хиперлипидемије могу се дати статини (нема студија у дец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на т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рапија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кортикостеро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имуносупреси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 њом се започиње када се постави дијагноза нефротског синдрома, јер се зна да деца у узрасту од 2-6 година најчешће имају хистолошки минималне промене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Наведена специфична терапија се обично започиње давањем Пронизона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днисо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 и она има две фаз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os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тинуира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јчешћ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²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ти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лаз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вак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лтернати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з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у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лак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скључи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ивањ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епе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,5-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аго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ск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болесни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циди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 такође лечи Пронизоном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 мањом дозом 4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 губитка протеинурије и још 3 дана, а затим се прелази на алтернативни начин лечења још 4 недеље, са см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њењем дозе постепено, до искључе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татистички пода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постоји разлика међу расама у испољавању  АПСГН; ово важи за све етничке и култур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 је чешћа код особа мушког пола у свим регионима света и то тако да се однос мушког према женском полу креће од 1,7 до 2 : 1; разлог за ову предоминацију није поз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је евидентиран код старца од 90 година и одојчета од годину дана, али је највећа учесталост обољевања код деце старости 4-12 година са пиком у узрасту 5-6 г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Б (SPE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0040" y="1428840"/>
          <a:ext cx="8286840" cy="42116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снижена гломерулска филтрациј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2:08:22Z</dcterms:created>
  <dc:creator>DR DJOLE</dc:creator>
  <dc:description/>
  <dc:language>en-US</dc:language>
  <cp:lastModifiedBy>User</cp:lastModifiedBy>
  <dcterms:modified xsi:type="dcterms:W3CDTF">2014-08-12T12:46:58Z</dcterms:modified>
  <cp:revision>216</cp:revision>
  <dc:subject/>
  <dc:title>Slide 1</dc:title>
</cp:coreProperties>
</file>